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1.png" ContentType="image/png"/>
  <Override PartName="/ppt/media/image29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13.wmf" ContentType="image/x-wmf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12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14.wmf" ContentType="image/x-wm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D5F-1A52-42DF-A186-BD2A5786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0ED-B88E-49FD-AB87-38956E88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275-2EDD-4B3E-A26B-5858B816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1C9-7CC0-4D0F-8325-60504C9F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CA0-C2C2-4850-9ECA-6D6FCC06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26E-2530-4AA8-9317-1D5977B7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6CD-3837-430E-9A4A-EBCD6BF5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24C-D43A-4D20-AC46-F50FAE4E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20E-14BC-49D4-A9A3-B438654E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268-3C23-4466-9385-A0698DE1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536-FA31-457E-B8FD-D8B148C9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138-8550-4D13-921E-C0936137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B104-089A-491C-BE35-B90599FD4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6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pi.ning.com/files/4TorzpC5WL5yydG389fHcvDRSCSeHt0NAGmiURLty-DQCGRmtWkantAK4RTNX4GUibZFBPUuXSL3F0kR1-9V*sDY6nh8z72b/texas.jpg&amp;imgrefurl=http://network.latpro.com/group/texas&amp;usg=__t3qJIwp2lQc7ouGyWAmEme0nM_M=&amp;h=1200&amp;w=1200&amp;sz=72&amp;hl=en&amp;start=3&amp;tbnid=yXY1_ahEanY_uM:&amp;tbnh=150&amp;tbnw=150&amp;prev=/images?q=texas&amp;gbv=2&amp;hl=en&amp;ie=UTF-8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lawline.com/images/NC.GIF&amp;imgrefurl=http://www.lawline.com/cle/view-bundles.php&amp;usg=__Emvg-3qWD_ymX9iQCkyGiMpxg20=&amp;h=600&amp;w=800&amp;sz=4&amp;hl=en&amp;start=2&amp;tbnid=G6ZGzcgB5Zlx8M:&amp;tbnh=107&amp;tbnw=143&amp;prev=/images?q=nc&amp;gbv=2&amp;hl=en&amp;ie=UTF-8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hyperlink" Target="http://images.google.com/imgres?imgurl=http://us.history.wisc.edu/hist102/weblect/lec03/indian_chief_joseph.jpg&amp;imgrefurl=http://us.history.wisc.edu/hist102/weblect/lec03/03_06.htm&amp;usg=__chSG96TjfCqZSXBjQToyObCANtg=&amp;h=640&amp;w=491&amp;sz=61&amp;hl=en&amp;start=87&amp;tbnid=7WVXDyxGcMfn6M:&amp;tbnh=137&amp;tbnw=105&amp;prev=/images?q=indian+chief&amp;gbv=2&amp;ndsp=20&amp;hl=en&amp;sa=N&amp;start=80&amp;ie=UTF-8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carolina-north.com/images/nc_flag.jpg&amp;imgrefurl=http://www.carolina-north.com/state_flag.html&amp;usg=__JMz4PnmtJeczOPahPAAiNiooe8Y=&amp;h=403&amp;w=539&amp;sz=18&amp;hl=en&amp;start=1&amp;tbnid=p33s6gpvFEVUvM:&amp;tbnh=99&amp;tbnw=132&amp;prev=/images?q=nc+flag&amp;gbv=2&amp;hl=en&amp;ie=UTF-8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876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Amendments 11-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mendments_scramble"/>
          <p:cNvPicPr/>
          <p:nvPr/>
        </p:nvPicPr>
        <p:blipFill>
          <a:blip r:embed="rId1"/>
          <a:stretch/>
        </p:blipFill>
        <p:spPr>
          <a:xfrm>
            <a:off x="3481560" y="304920"/>
            <a:ext cx="5052960" cy="495288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 rot="20087400">
            <a:off x="533520" y="2971800"/>
            <a:ext cx="441936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onstitution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66680" y="1828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s women the right to vot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sba-arrested"/>
          <p:cNvPicPr/>
          <p:nvPr/>
        </p:nvPicPr>
        <p:blipFill>
          <a:blip r:embed="rId1"/>
          <a:stretch/>
        </p:blipFill>
        <p:spPr>
          <a:xfrm>
            <a:off x="76320" y="304920"/>
            <a:ext cx="2101680" cy="350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votestamp"/>
          <p:cNvPicPr/>
          <p:nvPr/>
        </p:nvPicPr>
        <p:blipFill>
          <a:blip r:embed="rId2"/>
          <a:stretch/>
        </p:blipFill>
        <p:spPr>
          <a:xfrm>
            <a:off x="2666880" y="2971800"/>
            <a:ext cx="3514680" cy="3743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"/>
          <p:cNvSpPr/>
          <p:nvPr/>
        </p:nvSpPr>
        <p:spPr>
          <a:xfrm>
            <a:off x="6400800" y="2362320"/>
            <a:ext cx="2514600" cy="1371600"/>
          </a:xfrm>
          <a:prstGeom prst="wedgeRoundRectCallout">
            <a:avLst>
              <a:gd name="adj1" fmla="val -86111"/>
              <a:gd name="adj2" fmla="val 5208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6324480" y="25909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finally have suffrage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2009-january"/>
          <p:cNvPicPr/>
          <p:nvPr/>
        </p:nvPicPr>
        <p:blipFill>
          <a:blip r:embed="rId1"/>
          <a:stretch/>
        </p:blipFill>
        <p:spPr>
          <a:xfrm>
            <a:off x="609480" y="2057400"/>
            <a:ext cx="3733920" cy="2951280"/>
          </a:xfrm>
          <a:prstGeom prst="rect">
            <a:avLst/>
          </a:prstGeom>
          <a:ln w="0">
            <a:noFill/>
          </a:ln>
        </p:spPr>
      </p:pic>
      <p:sp>
        <p:nvSpPr>
          <p:cNvPr id="127" name="Oval 7"/>
          <p:cNvSpPr/>
          <p:nvPr/>
        </p:nvSpPr>
        <p:spPr>
          <a:xfrm>
            <a:off x="1676520" y="3657600"/>
            <a:ext cx="609480" cy="533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march-calander"/>
          <p:cNvPicPr/>
          <p:nvPr/>
        </p:nvPicPr>
        <p:blipFill>
          <a:blip r:embed="rId2"/>
          <a:stretch/>
        </p:blipFill>
        <p:spPr>
          <a:xfrm>
            <a:off x="4952880" y="2286000"/>
            <a:ext cx="3657600" cy="29908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0"/>
          <p:cNvSpPr/>
          <p:nvPr/>
        </p:nvSpPr>
        <p:spPr>
          <a:xfrm flipH="1" rot="20433600">
            <a:off x="761400" y="1676160"/>
            <a:ext cx="5943600" cy="1371600"/>
          </a:xfrm>
          <a:custGeom>
            <a:avLst/>
            <a:gdLst>
              <a:gd name="textAreaLeft" fmla="*/ 1173240 w 5943600"/>
              <a:gd name="textAreaRight" fmla="*/ 4159440 w 5943600"/>
              <a:gd name="textAreaTop" fmla="*/ 183600 h 1371600"/>
              <a:gd name="textAreaBottom" fmla="*/ 11880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5" hR="21600" stAng="10800000" swAng="5400000"/>
                <a:lnTo>
                  <a:pt x="10853" y="0"/>
                </a:lnTo>
                <a:arcTo wR="8525" hR="21600" stAng="-5400000" swAng="1633275"/>
                <a:lnTo>
                  <a:pt x="19839" y="8452"/>
                </a:lnTo>
                <a:lnTo>
                  <a:pt x="18213" y="21600"/>
                </a:lnTo>
                <a:lnTo>
                  <a:pt x="13065" y="8452"/>
                </a:lnTo>
                <a:lnTo>
                  <a:pt x="15288" y="8452"/>
                </a:lnTo>
                <a:arcTo wR="8525" hR="21600" stAng="-3766725" swAng="-1446451"/>
                <a:lnTo>
                  <a:pt x="9689" y="202"/>
                </a:lnTo>
                <a:arcTo wR="8525" hR="21600" stAng="-5586824" swAng="-5213176"/>
                <a:close/>
              </a:path>
              <a:path fill="darkenLess" w="21600" h="21600">
                <a:moveTo>
                  <a:pt x="0" y="21600"/>
                </a:moveTo>
                <a:arcTo wR="8525" hR="21600" stAng="10800000" swAng="5400000"/>
                <a:lnTo>
                  <a:pt x="8525" y="0"/>
                </a:lnTo>
                <a:arcTo wR="8525" hR="21600" stAng="-5400000" swAng="186824"/>
                <a:lnTo>
                  <a:pt x="9689" y="202"/>
                </a:lnTo>
                <a:arcTo wR="8525" hR="21600" stAng="-5586824" swAng="-521317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04920" y="53341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s the presidential inauguration date from the month of March to January 2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This amendment is also known as the 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me Du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          amend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3" descr="lameduck"/>
          <p:cNvPicPr/>
          <p:nvPr/>
        </p:nvPicPr>
        <p:blipFill>
          <a:blip r:embed="rId3"/>
          <a:stretch/>
        </p:blipFill>
        <p:spPr>
          <a:xfrm>
            <a:off x="6629400" y="5638680"/>
            <a:ext cx="571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8088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hibition ends,                        , alcohol is legal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goodolddays"/>
          <p:cNvPicPr/>
          <p:nvPr/>
        </p:nvPicPr>
        <p:blipFill>
          <a:blip r:embed="rId1"/>
          <a:stretch/>
        </p:blipFill>
        <p:spPr>
          <a:xfrm>
            <a:off x="76320" y="76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prohibition"/>
          <p:cNvPicPr/>
          <p:nvPr/>
        </p:nvPicPr>
        <p:blipFill>
          <a:blip r:embed="rId2"/>
          <a:stretch/>
        </p:blipFill>
        <p:spPr>
          <a:xfrm>
            <a:off x="6934320" y="76320"/>
            <a:ext cx="2057400" cy="1531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Champaigne"/>
          <p:cNvPicPr/>
          <p:nvPr/>
        </p:nvPicPr>
        <p:blipFill>
          <a:blip r:embed="rId3"/>
          <a:stretch/>
        </p:blipFill>
        <p:spPr>
          <a:xfrm>
            <a:off x="304920" y="2514600"/>
            <a:ext cx="4647960" cy="32385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1"/>
          <p:cNvSpPr/>
          <p:nvPr/>
        </p:nvSpPr>
        <p:spPr>
          <a:xfrm>
            <a:off x="380880" y="2362320"/>
            <a:ext cx="4496040" cy="3657600"/>
          </a:xfrm>
          <a:custGeom>
            <a:avLst/>
            <a:gdLst>
              <a:gd name="textAreaLeft" fmla="*/ 658080 w 4496040"/>
              <a:gd name="textAreaRight" fmla="*/ 3837960 w 4496040"/>
              <a:gd name="textAreaTop" fmla="*/ 535320 h 3657600"/>
              <a:gd name="textAreaBottom" fmla="*/ 312228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699" y="9117"/>
                  <a:pt x="2699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 rot="17752800">
            <a:off x="2436120" y="1297440"/>
            <a:ext cx="533160" cy="540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 rot="3245400">
            <a:off x="2435400" y="1450080"/>
            <a:ext cx="533520" cy="540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 rot="19388400">
            <a:off x="1143720" y="38858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   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6" descr="33657108"/>
          <p:cNvPicPr/>
          <p:nvPr/>
        </p:nvPicPr>
        <p:blipFill>
          <a:blip r:embed="rId4"/>
          <a:stretch/>
        </p:blipFill>
        <p:spPr>
          <a:xfrm rot="20690400">
            <a:off x="5562720" y="3352680"/>
            <a:ext cx="2146320" cy="327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champaigne"/>
          <p:cNvPicPr/>
          <p:nvPr/>
        </p:nvPicPr>
        <p:blipFill>
          <a:blip r:embed="rId5"/>
          <a:stretch/>
        </p:blipFill>
        <p:spPr>
          <a:xfrm>
            <a:off x="7696080" y="2971800"/>
            <a:ext cx="1160640" cy="1295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9"/>
          <p:cNvSpPr/>
          <p:nvPr/>
        </p:nvSpPr>
        <p:spPr>
          <a:xfrm>
            <a:off x="5257800" y="2575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reak out the Champaign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ea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FDR"/>
          <p:cNvPicPr/>
          <p:nvPr/>
        </p:nvPicPr>
        <p:blipFill>
          <a:blip r:embed="rId1"/>
          <a:stretch/>
        </p:blipFill>
        <p:spPr>
          <a:xfrm rot="20527800">
            <a:off x="762120" y="1523520"/>
            <a:ext cx="1427040" cy="2119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george_washington"/>
          <p:cNvPicPr/>
          <p:nvPr/>
        </p:nvPicPr>
        <p:blipFill>
          <a:blip r:embed="rId2"/>
          <a:stretch/>
        </p:blipFill>
        <p:spPr>
          <a:xfrm rot="522000">
            <a:off x="6400440" y="1371240"/>
            <a:ext cx="1824120" cy="22860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1"/>
          <p:cNvSpPr/>
          <p:nvPr/>
        </p:nvSpPr>
        <p:spPr>
          <a:xfrm>
            <a:off x="2971800" y="1371600"/>
            <a:ext cx="2819520" cy="1523880"/>
          </a:xfrm>
          <a:prstGeom prst="wedgeRoundRectCallout">
            <a:avLst>
              <a:gd name="adj1" fmla="val -86541"/>
              <a:gd name="adj2" fmla="val 35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3048120" y="1371600"/>
            <a:ext cx="266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know, I know, George, I broke your tradition of only serving two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609480" y="3200400"/>
            <a:ext cx="4114800" cy="1828800"/>
          </a:xfrm>
          <a:prstGeom prst="cloudCallout">
            <a:avLst>
              <a:gd name="adj1" fmla="val -30592"/>
              <a:gd name="adj2" fmla="val 2873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4724280" y="3124080"/>
            <a:ext cx="4114800" cy="1828800"/>
          </a:xfrm>
          <a:prstGeom prst="cloudCallout">
            <a:avLst>
              <a:gd name="adj1" fmla="val -29398"/>
              <a:gd name="adj2" fmla="val 1111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>
            <a:off x="2362320" y="3429000"/>
            <a:ext cx="4114800" cy="1828800"/>
          </a:xfrm>
          <a:prstGeom prst="cloudCallout">
            <a:avLst>
              <a:gd name="adj1" fmla="val 32212"/>
              <a:gd name="adj2" fmla="val -38453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33520" y="525780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lin Roosevelt was elected four times, all presidents are now limited to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wo ter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Terms, 2 Terms per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map_of_washington-dc"/>
          <p:cNvPicPr/>
          <p:nvPr/>
        </p:nvPicPr>
        <p:blipFill>
          <a:blip r:embed="rId1"/>
          <a:stretch/>
        </p:blipFill>
        <p:spPr>
          <a:xfrm>
            <a:off x="2362320" y="1600200"/>
            <a:ext cx="4438440" cy="33336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457200" y="5334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tizens of Washington, D.C. (our U.S. Capital) receive the right to vote in presidential elections.  Washington, D.C. is given 3 electoral v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dc_washingtonMonument_01"/>
          <p:cNvPicPr/>
          <p:nvPr/>
        </p:nvPicPr>
        <p:blipFill>
          <a:blip r:embed="rId2"/>
          <a:stretch/>
        </p:blipFill>
        <p:spPr>
          <a:xfrm>
            <a:off x="228600" y="2057400"/>
            <a:ext cx="1943280" cy="259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Jordan_Wizards"/>
          <p:cNvPicPr/>
          <p:nvPr/>
        </p:nvPicPr>
        <p:blipFill>
          <a:blip r:embed="rId3"/>
          <a:stretch/>
        </p:blipFill>
        <p:spPr>
          <a:xfrm>
            <a:off x="5410080" y="2590920"/>
            <a:ext cx="2838600" cy="2324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2"/>
          <p:cNvSpPr/>
          <p:nvPr/>
        </p:nvSpPr>
        <p:spPr>
          <a:xfrm>
            <a:off x="6324480" y="1066680"/>
            <a:ext cx="2819520" cy="1371600"/>
          </a:xfrm>
          <a:prstGeom prst="wedgeRoundRectCallout">
            <a:avLst>
              <a:gd name="adj1" fmla="val 8499"/>
              <a:gd name="adj2" fmla="val 936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6324480" y="1143000"/>
            <a:ext cx="266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ut time these folks can vote for the pr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white-house-picture"/>
          <p:cNvPicPr/>
          <p:nvPr/>
        </p:nvPicPr>
        <p:blipFill>
          <a:blip r:embed="rId4"/>
          <a:stretch/>
        </p:blipFill>
        <p:spPr>
          <a:xfrm>
            <a:off x="76320" y="76320"/>
            <a:ext cx="226692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295280" y="5715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Outlaw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l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1918poll184gph"/>
          <p:cNvPicPr/>
          <p:nvPr/>
        </p:nvPicPr>
        <p:blipFill>
          <a:blip r:embed="rId1"/>
          <a:stretch/>
        </p:blipFill>
        <p:spPr>
          <a:xfrm rot="833400">
            <a:off x="380520" y="3679560"/>
            <a:ext cx="3391200" cy="1654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57432168"/>
          <p:cNvPicPr/>
          <p:nvPr/>
        </p:nvPicPr>
        <p:blipFill>
          <a:blip r:embed="rId2"/>
          <a:stretch/>
        </p:blipFill>
        <p:spPr>
          <a:xfrm>
            <a:off x="4781520" y="2438280"/>
            <a:ext cx="2457360" cy="17780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8"/>
          <p:cNvSpPr/>
          <p:nvPr/>
        </p:nvSpPr>
        <p:spPr>
          <a:xfrm flipH="1">
            <a:off x="990000" y="1219320"/>
            <a:ext cx="3276360" cy="2133360"/>
          </a:xfrm>
          <a:prstGeom prst="cloudCallout">
            <a:avLst>
              <a:gd name="adj1" fmla="val -74810"/>
              <a:gd name="adj2" fmla="val 42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295280" y="152388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!! Now I can vote and feed my family.  One less thing I have to pa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990720" y="3505320"/>
            <a:ext cx="1904760" cy="1981080"/>
          </a:xfrm>
          <a:custGeom>
            <a:avLst/>
            <a:gdLst>
              <a:gd name="textAreaLeft" fmla="*/ 278640 w 1904760"/>
              <a:gd name="textAreaRight" fmla="*/ 1626120 w 1904760"/>
              <a:gd name="textAreaTop" fmla="*/ 289800 h 1981080"/>
              <a:gd name="textAreaBottom" fmla="*/ 169128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699" y="9117"/>
                  <a:pt x="2699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7" dur="1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62120" y="1295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s procedures for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ucc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presidency.  The V.P. takes over as president if the president is unable to fulfill his/her jo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biden"/>
          <p:cNvPicPr/>
          <p:nvPr/>
        </p:nvPicPr>
        <p:blipFill>
          <a:blip r:embed="rId1"/>
          <a:stretch/>
        </p:blipFill>
        <p:spPr>
          <a:xfrm>
            <a:off x="4191120" y="3230640"/>
            <a:ext cx="3838320" cy="25207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8"/>
          <p:cNvSpPr/>
          <p:nvPr/>
        </p:nvSpPr>
        <p:spPr>
          <a:xfrm>
            <a:off x="533520" y="2590920"/>
            <a:ext cx="3504960" cy="1981080"/>
          </a:xfrm>
          <a:prstGeom prst="wedgeRoundRectCallout">
            <a:avLst>
              <a:gd name="adj1" fmla="val 68884"/>
              <a:gd name="adj2" fmla="val 24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33520" y="274320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to worry, I’m ready to step in if something happens to Barr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4"/>
          <p:cNvSpPr txBox="1"/>
          <p:nvPr/>
        </p:nvSpPr>
        <p:spPr>
          <a:xfrm rot="20408400">
            <a:off x="-60480" y="2133720"/>
            <a:ext cx="59436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8 year olds have suffrage right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76" name="Picture 6" descr="YoungFolk"/>
          <p:cNvPicPr/>
          <p:nvPr/>
        </p:nvPicPr>
        <p:blipFill>
          <a:blip r:embed="rId1"/>
          <a:stretch/>
        </p:blipFill>
        <p:spPr>
          <a:xfrm>
            <a:off x="3124080" y="320040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7"/>
          <p:cNvSpPr/>
          <p:nvPr/>
        </p:nvSpPr>
        <p:spPr>
          <a:xfrm flipH="1">
            <a:off x="5942880" y="1905120"/>
            <a:ext cx="3048120" cy="1981080"/>
          </a:xfrm>
          <a:prstGeom prst="wedgeRoundRectCallout">
            <a:avLst>
              <a:gd name="adj1" fmla="val 86925"/>
              <a:gd name="adj2" fmla="val 10600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019920" y="2041560"/>
            <a:ext cx="2819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think it means we can vote!!!   But, wait a minute, aren’t we having a party on that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33520" y="5105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ress can give themselves a pay raise, but they have to wait until after the next election before they can ge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Mike_McIntyre,_official_Congressional_photo"/>
          <p:cNvPicPr/>
          <p:nvPr/>
        </p:nvPicPr>
        <p:blipFill>
          <a:blip r:embed="rId1"/>
          <a:srcRect l="0" t="12767" r="0" b="0"/>
          <a:stretch/>
        </p:blipFill>
        <p:spPr>
          <a:xfrm>
            <a:off x="4971960" y="1600200"/>
            <a:ext cx="1878120" cy="25146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8"/>
          <p:cNvSpPr/>
          <p:nvPr/>
        </p:nvSpPr>
        <p:spPr>
          <a:xfrm>
            <a:off x="1066680" y="1905120"/>
            <a:ext cx="2590920" cy="1981080"/>
          </a:xfrm>
          <a:prstGeom prst="wedgeRoundRectCallout">
            <a:avLst>
              <a:gd name="adj1" fmla="val 121324"/>
              <a:gd name="adj2" fmla="val -12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914400" y="2057400"/>
            <a:ext cx="281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mean I can give myself a pay raise, but I’ll have to wait until after my reelection to ge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495680" y="4038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e McIntyre                 US Congressman,          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rict, N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520" y="5410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itizen of one state can’t sue the government of another state unless it is done in the state being su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ex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676520"/>
            <a:ext cx="3578400" cy="3578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NC">
            <a:hlinkClick r:id="rId3"/>
          </p:cNvPr>
          <p:cNvPicPr/>
          <p:nvPr/>
        </p:nvPicPr>
        <p:blipFill>
          <a:blip r:embed="rId4"/>
          <a:srcRect l="0" t="22960" r="0" b="23525"/>
          <a:stretch/>
        </p:blipFill>
        <p:spPr>
          <a:xfrm>
            <a:off x="685800" y="3581280"/>
            <a:ext cx="2662200" cy="1067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MCj04404880000[1]"/>
          <p:cNvPicPr/>
          <p:nvPr/>
        </p:nvPicPr>
        <p:blipFill>
          <a:blip r:embed="rId5"/>
          <a:stretch/>
        </p:blipFill>
        <p:spPr>
          <a:xfrm>
            <a:off x="2590920" y="2209680"/>
            <a:ext cx="1101600" cy="144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MCj04405720000[1]"/>
          <p:cNvPicPr/>
          <p:nvPr/>
        </p:nvPicPr>
        <p:blipFill>
          <a:blip r:embed="rId6"/>
          <a:stretch/>
        </p:blipFill>
        <p:spPr>
          <a:xfrm>
            <a:off x="4495680" y="1676520"/>
            <a:ext cx="1613160" cy="16128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1"/>
          <p:cNvSpPr/>
          <p:nvPr/>
        </p:nvSpPr>
        <p:spPr>
          <a:xfrm>
            <a:off x="228600" y="1295280"/>
            <a:ext cx="2362320" cy="990720"/>
          </a:xfrm>
          <a:prstGeom prst="wedgeRoundRectCallout">
            <a:avLst>
              <a:gd name="adj1" fmla="val 52620"/>
              <a:gd name="adj2" fmla="val 12531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80880" y="1447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, I’m going to sue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6629400" y="990720"/>
            <a:ext cx="2362320" cy="990360"/>
          </a:xfrm>
          <a:prstGeom prst="wedgeRoundRectCallout">
            <a:avLst>
              <a:gd name="adj1" fmla="val -90388"/>
              <a:gd name="adj2" fmla="val 12307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705720" y="10666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’re gonna sue Texas, you gotta sue Texas in Tex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80880" y="56991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oral College has separate ballots for President and Vice-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 rot="20329200">
            <a:off x="1295280" y="2057040"/>
            <a:ext cx="243864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 rot="487200">
            <a:off x="5410080" y="1904760"/>
            <a:ext cx="243864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 rot="20369400">
            <a:off x="914760" y="2131200"/>
            <a:ext cx="2361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oral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ial Bal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 rot="530400">
            <a:off x="5443920" y="2008080"/>
            <a:ext cx="2638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oral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-Presidential Bal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 rot="20369400">
            <a:off x="1296360" y="318240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ama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C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 rot="457200">
            <a:off x="5409360" y="308736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den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1905120" y="3048120"/>
            <a:ext cx="304560" cy="520560"/>
          </a:xfrm>
          <a:custGeom>
            <a:avLst/>
            <a:gdLst>
              <a:gd name="textAreaLeft" fmla="*/ 0 w 304560"/>
              <a:gd name="textAreaRight" fmla="*/ 304920 w 304560"/>
              <a:gd name="textAreaTop" fmla="*/ 0 h 520560"/>
              <a:gd name="textAreaBottom" fmla="*/ 520560 h 520560"/>
            </a:gdLst>
            <a:ahLst/>
            <a:rect l="textAreaLeft" t="textAreaTop" r="textAreaRight" b="textAreaBottom"/>
            <a:pathLst>
              <a:path w="192" h="328">
                <a:moveTo>
                  <a:pt x="0" y="240"/>
                </a:moveTo>
                <a:cubicBezTo>
                  <a:pt x="32" y="284"/>
                  <a:pt x="64" y="328"/>
                  <a:pt x="96" y="288"/>
                </a:cubicBezTo>
                <a:cubicBezTo>
                  <a:pt x="128" y="248"/>
                  <a:pt x="176" y="48"/>
                  <a:pt x="19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4"/>
          <p:cNvSpPr/>
          <p:nvPr/>
        </p:nvSpPr>
        <p:spPr>
          <a:xfrm rot="1331400">
            <a:off x="6171840" y="2755800"/>
            <a:ext cx="304920" cy="520920"/>
          </a:xfrm>
          <a:custGeom>
            <a:avLst/>
            <a:gdLst>
              <a:gd name="textAreaLeft" fmla="*/ 0 w 304920"/>
              <a:gd name="textAreaRight" fmla="*/ 305280 w 3049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92" h="328">
                <a:moveTo>
                  <a:pt x="0" y="240"/>
                </a:moveTo>
                <a:cubicBezTo>
                  <a:pt x="32" y="284"/>
                  <a:pt x="64" y="328"/>
                  <a:pt x="96" y="288"/>
                </a:cubicBezTo>
                <a:cubicBezTo>
                  <a:pt x="128" y="248"/>
                  <a:pt x="176" y="48"/>
                  <a:pt x="19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14400" y="5867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lished slaver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UCTfrontis2"/>
          <p:cNvPicPr/>
          <p:nvPr/>
        </p:nvPicPr>
        <p:blipFill>
          <a:blip r:embed="rId1"/>
          <a:stretch/>
        </p:blipFill>
        <p:spPr>
          <a:xfrm rot="20316000">
            <a:off x="1447560" y="1523520"/>
            <a:ext cx="2543040" cy="3848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13th-amendment"/>
          <p:cNvPicPr/>
          <p:nvPr/>
        </p:nvPicPr>
        <p:blipFill>
          <a:blip r:embed="rId2"/>
          <a:stretch/>
        </p:blipFill>
        <p:spPr>
          <a:xfrm>
            <a:off x="4800600" y="1600200"/>
            <a:ext cx="2762280" cy="24987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2"/>
          <p:cNvSpPr txBox="1"/>
          <p:nvPr/>
        </p:nvSpPr>
        <p:spPr>
          <a:xfrm rot="5400000">
            <a:off x="5742720" y="3095640"/>
            <a:ext cx="56199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ivil War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mend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usa"/>
          <p:cNvPicPr/>
          <p:nvPr/>
        </p:nvPicPr>
        <p:blipFill>
          <a:blip r:embed="rId1"/>
          <a:srcRect l="0" t="2003" r="1284" b="0"/>
          <a:stretch/>
        </p:blipFill>
        <p:spPr>
          <a:xfrm>
            <a:off x="762120" y="1600200"/>
            <a:ext cx="7543800" cy="4800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457200" y="1600200"/>
            <a:ext cx="55627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one born in the U.S. is a citi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MCj04356480000[1]"/>
          <p:cNvPicPr/>
          <p:nvPr/>
        </p:nvPicPr>
        <p:blipFill>
          <a:blip r:embed="rId2"/>
          <a:stretch/>
        </p:blipFill>
        <p:spPr>
          <a:xfrm>
            <a:off x="2438280" y="2286000"/>
            <a:ext cx="1481400" cy="29178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0"/>
          <p:cNvSpPr/>
          <p:nvPr/>
        </p:nvSpPr>
        <p:spPr>
          <a:xfrm>
            <a:off x="4648320" y="2514600"/>
            <a:ext cx="2361960" cy="990720"/>
          </a:xfrm>
          <a:prstGeom prst="wedgeRoundRectCallout">
            <a:avLst>
              <a:gd name="adj1" fmla="val -77555"/>
              <a:gd name="adj2" fmla="val 26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724280" y="2666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 too?  Me a ‘itiz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4495680" y="6026040"/>
            <a:ext cx="464832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, we are all equally          protected by the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MCj04405780000[1]"/>
          <p:cNvPicPr/>
          <p:nvPr/>
        </p:nvPicPr>
        <p:blipFill>
          <a:blip r:embed="rId3"/>
          <a:stretch/>
        </p:blipFill>
        <p:spPr>
          <a:xfrm rot="20199600">
            <a:off x="4038480" y="51814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MCj04349470000[1]"/>
          <p:cNvPicPr/>
          <p:nvPr/>
        </p:nvPicPr>
        <p:blipFill>
          <a:blip r:embed="rId4"/>
          <a:stretch/>
        </p:blipFill>
        <p:spPr>
          <a:xfrm>
            <a:off x="5181480" y="5105520"/>
            <a:ext cx="98424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MCj00890860000[1]"/>
          <p:cNvPicPr/>
          <p:nvPr/>
        </p:nvPicPr>
        <p:blipFill>
          <a:blip r:embed="rId5"/>
          <a:stretch/>
        </p:blipFill>
        <p:spPr>
          <a:xfrm>
            <a:off x="6095880" y="4876920"/>
            <a:ext cx="746280" cy="1276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MCj03587590000[1]"/>
          <p:cNvPicPr/>
          <p:nvPr/>
        </p:nvPicPr>
        <p:blipFill>
          <a:blip r:embed="rId6"/>
          <a:stretch/>
        </p:blipFill>
        <p:spPr>
          <a:xfrm>
            <a:off x="6781680" y="5029200"/>
            <a:ext cx="1154160" cy="1023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indian_chief_joseph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924680" y="5019840"/>
            <a:ext cx="825480" cy="1076040"/>
          </a:xfrm>
          <a:prstGeom prst="rect">
            <a:avLst/>
          </a:prstGeom>
          <a:ln w="0">
            <a:noFill/>
          </a:ln>
        </p:spPr>
      </p:pic>
      <p:sp>
        <p:nvSpPr>
          <p:cNvPr id="81" name="WordArt 20"/>
          <p:cNvSpPr txBox="1"/>
          <p:nvPr/>
        </p:nvSpPr>
        <p:spPr>
          <a:xfrm rot="5400000">
            <a:off x="6514920" y="2400120"/>
            <a:ext cx="44960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ivil War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 rot="5400000">
            <a:off x="5742720" y="3095640"/>
            <a:ext cx="56199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ivil War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762120" y="167652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ing rights could not be denied because of race or color (or could it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57432168"/>
          <p:cNvPicPr/>
          <p:nvPr/>
        </p:nvPicPr>
        <p:blipFill>
          <a:blip r:embed="rId1"/>
          <a:stretch/>
        </p:blipFill>
        <p:spPr>
          <a:xfrm>
            <a:off x="2895480" y="3048120"/>
            <a:ext cx="2457720" cy="17780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9"/>
          <p:cNvSpPr/>
          <p:nvPr/>
        </p:nvSpPr>
        <p:spPr>
          <a:xfrm>
            <a:off x="5105520" y="2362320"/>
            <a:ext cx="2286000" cy="1295280"/>
          </a:xfrm>
          <a:prstGeom prst="cloudCallout">
            <a:avLst>
              <a:gd name="adj1" fmla="val -76666"/>
              <a:gd name="adj2" fmla="val 50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 flipH="1">
            <a:off x="457200" y="2819520"/>
            <a:ext cx="2743200" cy="1066680"/>
          </a:xfrm>
          <a:prstGeom prst="cloudCallout">
            <a:avLst>
              <a:gd name="adj1" fmla="val -47282"/>
              <a:gd name="adj2" fmla="val 35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99072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I vo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5334120" y="2666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do I feed my fami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polltax"/>
          <p:cNvPicPr/>
          <p:nvPr/>
        </p:nvPicPr>
        <p:blipFill>
          <a:blip r:embed="rId2"/>
          <a:stretch/>
        </p:blipFill>
        <p:spPr>
          <a:xfrm>
            <a:off x="5105520" y="3886200"/>
            <a:ext cx="2762280" cy="272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1918poll184gph"/>
          <p:cNvPicPr/>
          <p:nvPr/>
        </p:nvPicPr>
        <p:blipFill>
          <a:blip r:embed="rId3"/>
          <a:stretch/>
        </p:blipFill>
        <p:spPr>
          <a:xfrm rot="833400">
            <a:off x="609120" y="4647960"/>
            <a:ext cx="33912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352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ederal government can tax our in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bills"/>
          <p:cNvPicPr/>
          <p:nvPr/>
        </p:nvPicPr>
        <p:blipFill>
          <a:blip r:embed="rId1"/>
          <a:stretch/>
        </p:blipFill>
        <p:spPr>
          <a:xfrm>
            <a:off x="2057400" y="2209680"/>
            <a:ext cx="3600360" cy="30895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/>
          <p:cNvSpPr/>
          <p:nvPr/>
        </p:nvSpPr>
        <p:spPr>
          <a:xfrm>
            <a:off x="228600" y="1143000"/>
            <a:ext cx="2362320" cy="990720"/>
          </a:xfrm>
          <a:prstGeom prst="wedgeRoundRectCallout">
            <a:avLst>
              <a:gd name="adj1" fmla="val 48050"/>
              <a:gd name="adj2" fmla="val 870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04920" y="114300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, all I need is a bill from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122407irs_cst_feed_20071223_20_27_19_92-310-400"/>
          <p:cNvPicPr/>
          <p:nvPr/>
        </p:nvPicPr>
        <p:blipFill>
          <a:blip r:embed="rId2"/>
          <a:stretch/>
        </p:blipFill>
        <p:spPr>
          <a:xfrm>
            <a:off x="5943600" y="3240000"/>
            <a:ext cx="2971800" cy="23036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3"/>
          <p:cNvSpPr/>
          <p:nvPr/>
        </p:nvSpPr>
        <p:spPr>
          <a:xfrm>
            <a:off x="5867280" y="1219320"/>
            <a:ext cx="3124440" cy="1523880"/>
          </a:xfrm>
          <a:prstGeom prst="wedgeRoundRectCallout">
            <a:avLst>
              <a:gd name="adj1" fmla="val -15851"/>
              <a:gd name="adj2" fmla="val 8364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5943600" y="129528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you worry, we know how to spe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Y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on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ter than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52280" y="167652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to the 1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mendment, the state legislatures chose the senators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8600" y="592776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 passage of the 1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O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ly elect their sena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kay-hagen"/>
          <p:cNvPicPr/>
          <p:nvPr/>
        </p:nvPicPr>
        <p:blipFill>
          <a:blip r:embed="rId1"/>
          <a:stretch/>
        </p:blipFill>
        <p:spPr>
          <a:xfrm rot="783600">
            <a:off x="6552720" y="2666880"/>
            <a:ext cx="1905120" cy="266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011006b"/>
          <p:cNvPicPr/>
          <p:nvPr/>
        </p:nvPicPr>
        <p:blipFill>
          <a:blip r:embed="rId2"/>
          <a:stretch/>
        </p:blipFill>
        <p:spPr>
          <a:xfrm rot="20587800">
            <a:off x="838080" y="2819160"/>
            <a:ext cx="1992600" cy="2560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nc_fl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4343400"/>
            <a:ext cx="2076480" cy="15573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3"/>
          <p:cNvSpPr/>
          <p:nvPr/>
        </p:nvSpPr>
        <p:spPr>
          <a:xfrm>
            <a:off x="3429000" y="2819520"/>
            <a:ext cx="2362320" cy="1066680"/>
          </a:xfrm>
          <a:prstGeom prst="wedgeRoundRectCallout">
            <a:avLst>
              <a:gd name="adj1" fmla="val 4569"/>
              <a:gd name="adj2" fmla="val 8854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276720" y="297036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better do a good job if you want to be re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429000" y="21337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.C.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 rot="20549400">
            <a:off x="45756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 Bu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 rot="807600">
            <a:off x="6933960" y="2362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 H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905040" y="1884240"/>
            <a:ext cx="7333920" cy="2306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hibited the sale of alcoh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13" name="Picture 7" descr="prohibitionxblog200"/>
          <p:cNvPicPr/>
          <p:nvPr/>
        </p:nvPicPr>
        <p:blipFill>
          <a:blip r:embed="rId1"/>
          <a:stretch/>
        </p:blipFill>
        <p:spPr>
          <a:xfrm>
            <a:off x="152280" y="152280"/>
            <a:ext cx="1828800" cy="169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Prohibition"/>
          <p:cNvPicPr/>
          <p:nvPr/>
        </p:nvPicPr>
        <p:blipFill>
          <a:blip r:embed="rId2"/>
          <a:stretch/>
        </p:blipFill>
        <p:spPr>
          <a:xfrm>
            <a:off x="7238880" y="152280"/>
            <a:ext cx="1752840" cy="1712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Champaigne"/>
          <p:cNvPicPr/>
          <p:nvPr/>
        </p:nvPicPr>
        <p:blipFill>
          <a:blip r:embed="rId3"/>
          <a:stretch/>
        </p:blipFill>
        <p:spPr>
          <a:xfrm>
            <a:off x="2133720" y="2597040"/>
            <a:ext cx="4647960" cy="32385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4"/>
          <p:cNvSpPr/>
          <p:nvPr/>
        </p:nvSpPr>
        <p:spPr>
          <a:xfrm>
            <a:off x="2209680" y="2362320"/>
            <a:ext cx="4496040" cy="3657600"/>
          </a:xfrm>
          <a:custGeom>
            <a:avLst/>
            <a:gdLst>
              <a:gd name="textAreaLeft" fmla="*/ 658080 w 4496040"/>
              <a:gd name="textAreaRight" fmla="*/ 3837960 w 4496040"/>
              <a:gd name="textAreaTop" fmla="*/ 535320 h 3657600"/>
              <a:gd name="textAreaBottom" fmla="*/ 312228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699" y="9117"/>
                  <a:pt x="2699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304920" y="61722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known as prohib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6781680" y="64008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amendment 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23:40:53Z</dcterms:created>
  <dc:creator>Steven R. Roberts</dc:creator>
  <dc:description/>
  <dc:language>en-US</dc:language>
  <cp:lastModifiedBy>Mt. Healthy City School Distric</cp:lastModifiedBy>
  <dcterms:modified xsi:type="dcterms:W3CDTF">2015-04-13T12:22:12Z</dcterms:modified>
  <cp:revision>8</cp:revision>
  <dc:subject/>
  <dc:title>Amendments 11-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